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9B8-65CA-449D-8C84-56B3D05E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E8B-1307-4E41-9F3E-CB1BCF7B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758-22F8-4BE7-9954-599D2E07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A5D-A30D-4E3E-9A5E-A8828592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422-2388-49B1-A7CC-A5E6DF1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BB7-D756-481D-825E-044EB6B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06E-E38C-4F11-A3C7-96EC089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8BB-BBAD-49D1-88B0-C99B244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2FB-AE1B-47AE-8916-03110FA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6B5-E432-4FCE-81B3-7794756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A14-05FC-4FFA-BBB9-643FFE2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19E-5F03-41E7-9A97-CAB6862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D703-0446-462D-9273-918F9DB5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24852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54" t="0" r="532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1055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9528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2578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471" t="0" r="532" b="0"/>
          <a:stretch/>
        </p:blipFill>
        <p:spPr>
          <a:xfrm>
            <a:off x="53352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52578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54" t="0" r="532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990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58672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Mo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54" t="0" r="913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4800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16:17Z</dcterms:created>
  <dc:creator>User</dc:creator>
  <dc:description/>
  <dc:language>en-US</dc:language>
  <cp:lastModifiedBy>a</cp:lastModifiedBy>
  <dcterms:modified xsi:type="dcterms:W3CDTF">2006-09-12T12:53:57Z</dcterms:modified>
  <cp:revision>4</cp:revision>
  <dc:subject/>
  <dc:title>Slide 1</dc:title>
</cp:coreProperties>
</file>